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star-trek-1.wav" ContentType="audio/x-wav"/>
  <Override PartName="/ppt/media/image5.jpeg" ContentType="image/jpeg"/>
  <Override PartName="/ppt/media/image8.jpeg" ContentType="image/jpeg"/>
  <Override PartName="/ppt/media/image10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30EA-FBFA-492D-8B5F-A9E9B32E2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2209320"/>
            <a:ext cx="7772400" cy="187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82600" y="4258440"/>
            <a:ext cx="7772400" cy="187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CC53-7A85-4EFF-AD36-D7A37BB18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209320"/>
            <a:ext cx="3792600" cy="187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65280" y="2209320"/>
            <a:ext cx="3792600" cy="187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82600" y="4258440"/>
            <a:ext cx="3792600" cy="187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65280" y="4258440"/>
            <a:ext cx="3792600" cy="187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6C98-E7F3-4127-BDF0-BBDD7FBC0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209320"/>
            <a:ext cx="2502360" cy="187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10600" y="2209320"/>
            <a:ext cx="2502360" cy="187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38240" y="2209320"/>
            <a:ext cx="2502360" cy="187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82600" y="4258440"/>
            <a:ext cx="2502360" cy="187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10600" y="4258440"/>
            <a:ext cx="2502360" cy="187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38240" y="4258440"/>
            <a:ext cx="2502360" cy="187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FB85-BEE3-4C40-AB5B-E2686E980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3ED2D-D3A8-448F-A54C-DBAA6B317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182600" y="2209320"/>
            <a:ext cx="7772400" cy="39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06CC9-F812-4B75-9CA7-3A57FA553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82600" y="2209320"/>
            <a:ext cx="7772400" cy="39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11BEB-4149-44FF-BB1E-0A990DFE5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209320"/>
            <a:ext cx="3792600" cy="39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65280" y="2209320"/>
            <a:ext cx="3792600" cy="39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CBAC7-11E2-47FC-B068-403F0F314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5F8E5-5905-4136-841D-941FFE7D3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1C10D-4489-4556-8F35-0B94544E2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82600" y="2209320"/>
            <a:ext cx="3792600" cy="187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65280" y="2209320"/>
            <a:ext cx="3792600" cy="39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182600" y="4258440"/>
            <a:ext cx="3792600" cy="187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80A4F-0CA2-4BC8-A5E2-F133CC66B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82600" y="2209320"/>
            <a:ext cx="7772400" cy="39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6280-1D59-4847-828E-EF490B559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209320"/>
            <a:ext cx="3792600" cy="39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209320"/>
            <a:ext cx="3792600" cy="187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65280" y="4258440"/>
            <a:ext cx="3792600" cy="187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EDF3F-6BD9-4D29-88A7-F3901BE00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2600" y="2209320"/>
            <a:ext cx="3792600" cy="187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65280" y="2209320"/>
            <a:ext cx="3792600" cy="187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82600" y="4258440"/>
            <a:ext cx="7772400" cy="187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53C72-251B-4B50-9444-94ADE32E9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2600" y="2209320"/>
            <a:ext cx="7772400" cy="187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182600" y="4258440"/>
            <a:ext cx="7772400" cy="187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A997B-E701-40E9-9A05-24F8F2D25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209320"/>
            <a:ext cx="3792600" cy="187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5280" y="2209320"/>
            <a:ext cx="3792600" cy="187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182600" y="4258440"/>
            <a:ext cx="3792600" cy="187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65280" y="4258440"/>
            <a:ext cx="3792600" cy="187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1C170-1770-46D9-9235-0145B19E3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82600" y="2209320"/>
            <a:ext cx="2502360" cy="187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10600" y="2209320"/>
            <a:ext cx="2502360" cy="187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438240" y="2209320"/>
            <a:ext cx="2502360" cy="187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182600" y="4258440"/>
            <a:ext cx="2502360" cy="187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10600" y="4258440"/>
            <a:ext cx="2502360" cy="187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438240" y="4258440"/>
            <a:ext cx="2502360" cy="187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297A8-A971-46F5-B2A6-2A98866F7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82600" y="2209320"/>
            <a:ext cx="7772400" cy="39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6099-6DDC-4FB1-AAB9-FB2FC2BBE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82600" y="2209320"/>
            <a:ext cx="3792600" cy="39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65280" y="2209320"/>
            <a:ext cx="3792600" cy="39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2586-7785-4314-A0DE-240362207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C15A-CB9A-48D7-B4BD-03DDBBF5A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8A5D-27F4-453D-B7BC-A38873C9D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209320"/>
            <a:ext cx="3792600" cy="187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209320"/>
            <a:ext cx="3792600" cy="39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82600" y="4258440"/>
            <a:ext cx="3792600" cy="187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4CBD-6A8D-4A58-A660-C3B07A18E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2209320"/>
            <a:ext cx="3792600" cy="39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2209320"/>
            <a:ext cx="3792600" cy="187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65280" y="4258440"/>
            <a:ext cx="3792600" cy="187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F798-6326-4226-9583-4DEA54335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2209320"/>
            <a:ext cx="3792600" cy="187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65280" y="2209320"/>
            <a:ext cx="3792600" cy="187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82600" y="4258440"/>
            <a:ext cx="7772400" cy="187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8724-4F84-4DF7-928C-6C5D63493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2600" y="2209320"/>
            <a:ext cx="7772400" cy="39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91919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99"/>
              </a:spcBef>
              <a:buClr>
                <a:srgbClr val="5f5f5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799"/>
              </a:spcBef>
              <a:buClr>
                <a:srgbClr val="91919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19920" indent="-217080">
              <a:spcBef>
                <a:spcPts val="799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1954440" indent="-217080">
              <a:spcBef>
                <a:spcPts val="799"/>
              </a:spcBef>
              <a:buClr>
                <a:srgbClr val="dddddd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1954440" indent="-217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1954440" indent="-217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47566-A0FB-4F86-B3F2-F73EDDDF90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228600" y="0"/>
            <a:ext cx="609480" cy="685800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0" y="1600200"/>
            <a:ext cx="9144000" cy="60948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228600" y="1600200"/>
            <a:ext cx="60948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" name="Picture 10" descr="logo-back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235080" y="1600200"/>
            <a:ext cx="603000" cy="633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0" y="3179880"/>
            <a:ext cx="9144000" cy="9144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0" y="0"/>
            <a:ext cx="838080" cy="685800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7" name="Picture 9" descr="logo-back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-20520" y="3159000"/>
            <a:ext cx="871560" cy="9144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1182600" y="2209320"/>
            <a:ext cx="7772400" cy="39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91919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99"/>
              </a:spcBef>
              <a:buClr>
                <a:srgbClr val="5f5f5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799"/>
              </a:spcBef>
              <a:buClr>
                <a:srgbClr val="91919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19920" indent="-217080">
              <a:spcBef>
                <a:spcPts val="799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1954440" indent="-217080">
              <a:spcBef>
                <a:spcPts val="799"/>
              </a:spcBef>
              <a:buClr>
                <a:srgbClr val="dddddd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1954440" indent="-217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1954440" indent="-217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1415B-04CF-4993-ADFC-E072F3398D02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star-trek-1.wav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Our Solar System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411444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 Write On Activit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1" name="Picture 4" descr="solar-system"/>
          <p:cNvPicPr/>
          <p:nvPr/>
        </p:nvPicPr>
        <p:blipFill>
          <a:blip r:embed="rId1"/>
          <a:stretch/>
        </p:blipFill>
        <p:spPr>
          <a:xfrm>
            <a:off x="6354720" y="0"/>
            <a:ext cx="2789280" cy="34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tar-trek-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Jupiter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182600" y="2209320"/>
            <a:ext cx="7275600" cy="39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1919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Largest planet in solar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1919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Brightest planet in sk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1919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60+ moons, 5 visible from Eart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1919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trong magnetic fie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1919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Giant red spo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1919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Rings have 3 parts:  Halo Ring, Main Ring, Gossamer 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1919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7" name="Picture 6" descr="jupiter"/>
          <p:cNvPicPr/>
          <p:nvPr/>
        </p:nvPicPr>
        <p:blipFill>
          <a:blip r:embed="rId1"/>
          <a:srcRect l="14831" t="16392" r="15208" b="14754"/>
          <a:stretch/>
        </p:blipFill>
        <p:spPr>
          <a:xfrm>
            <a:off x="6629400" y="0"/>
            <a:ext cx="2514600" cy="22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Saturn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182240" y="2209320"/>
            <a:ext cx="7580520" cy="39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1919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planet from su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1919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Beautiful set of ring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1919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31 mo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1919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Largest moon, Titan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1919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Easily visible in the night sk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1919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Voyager explored Saturn and its ring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0" name="Picture 6" descr="saturn_false_s"/>
          <p:cNvPicPr/>
          <p:nvPr/>
        </p:nvPicPr>
        <p:blipFill>
          <a:blip r:embed="rId1"/>
          <a:srcRect l="0" t="7720" r="0" b="0"/>
          <a:stretch/>
        </p:blipFill>
        <p:spPr>
          <a:xfrm>
            <a:off x="6410160" y="154080"/>
            <a:ext cx="2505240" cy="182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Uranus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182240" y="2209320"/>
            <a:ext cx="7123320" cy="39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1919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planet from su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1919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Has a faint ring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1919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27 known mo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1919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overed with clou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1919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Uranus sits on its side with the north and south poles sticking out the sid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1919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3" name="Picture 6" descr="uranus"/>
          <p:cNvPicPr/>
          <p:nvPr/>
        </p:nvPicPr>
        <p:blipFill>
          <a:blip r:embed="rId1"/>
          <a:srcRect l="15208" t="13116" r="20910" b="18030"/>
          <a:stretch/>
        </p:blipFill>
        <p:spPr>
          <a:xfrm>
            <a:off x="7010280" y="0"/>
            <a:ext cx="21337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Neptun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182240" y="2209320"/>
            <a:ext cx="7504200" cy="39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1919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planet from su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1919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Discovered through mat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1919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7 known mo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1919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riton largest mo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1919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Great Dark Spot thought to be a hole, similar to the hole in the ozone layer on Eart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1919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1919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6" name="Picture 6" descr="neptune"/>
          <p:cNvPicPr/>
          <p:nvPr/>
        </p:nvPicPr>
        <p:blipFill>
          <a:blip r:embed="rId1"/>
          <a:srcRect l="15208" t="19679" r="17870" b="18030"/>
          <a:stretch/>
        </p:blipFill>
        <p:spPr>
          <a:xfrm>
            <a:off x="6705720" y="152280"/>
            <a:ext cx="2209680" cy="19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Dwarf Plane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182600" y="2209320"/>
            <a:ext cx="5065920" cy="39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1919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Pluto, the dwarf planet, is a small solid icy planet that is smaller than the Earth's Mo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9" name="Picture 4" descr="solar-system"/>
          <p:cNvPicPr/>
          <p:nvPr/>
        </p:nvPicPr>
        <p:blipFill>
          <a:blip r:embed="rId1"/>
          <a:stretch/>
        </p:blipFill>
        <p:spPr>
          <a:xfrm>
            <a:off x="6354720" y="0"/>
            <a:ext cx="2789280" cy="34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Pluto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182600" y="2209320"/>
            <a:ext cx="5065920" cy="39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1919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planetary object from sun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1919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Never visited by spacecraf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1919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Orbits very slow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1919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Moon, Charon, is very close to Pluto and about the same siz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1919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1919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1919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2" name="Picture 6" descr="pluto"/>
          <p:cNvPicPr/>
          <p:nvPr/>
        </p:nvPicPr>
        <p:blipFill>
          <a:blip r:embed="rId1"/>
          <a:srcRect l="15208" t="19679" r="17870" b="14754"/>
          <a:stretch/>
        </p:blipFill>
        <p:spPr>
          <a:xfrm>
            <a:off x="7315200" y="0"/>
            <a:ext cx="1828800" cy="16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36648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steroid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142640" y="1676520"/>
            <a:ext cx="7010280" cy="39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1919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mall bodi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1919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Believed to be left over from the beginning of the solar system billions of years ag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1919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100,000 asteroids lie in  belt between Mars and Jupi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1919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Largest asteroids have been given nam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1919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5" name="Picture 6" descr="gaspracol_s"/>
          <p:cNvPicPr/>
          <p:nvPr/>
        </p:nvPicPr>
        <p:blipFill>
          <a:blip r:embed="rId1"/>
          <a:srcRect l="0" t="0" r="0" b="16667"/>
          <a:stretch/>
        </p:blipFill>
        <p:spPr>
          <a:xfrm>
            <a:off x="7086600" y="0"/>
            <a:ext cx="20574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et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182600" y="2209320"/>
            <a:ext cx="5065920" cy="39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1919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mall icy bod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1919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ravel past the Su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1919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Give off gas and dust as they pass b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8" name="Picture 8" descr="halray_s"/>
          <p:cNvPicPr/>
          <p:nvPr/>
        </p:nvPicPr>
        <p:blipFill>
          <a:blip r:embed="rId1"/>
          <a:stretch/>
        </p:blipFill>
        <p:spPr>
          <a:xfrm>
            <a:off x="6324480" y="0"/>
            <a:ext cx="28195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riting Activity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182600" y="2209320"/>
            <a:ext cx="7199280" cy="39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1919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Write a 5 paragraph essay about the solar system.  Include the facts covered in this presentation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1919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Due Monday – will have computers tomorrow during clas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EARTH AND SPACE SCIENCE Tennessee Standard: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182600" y="2209320"/>
            <a:ext cx="7772400" cy="39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ontent Standard: 7.0 Earth and Its Place in the Univer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1919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he student will investigate the structure of the univers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Learning Expectation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1919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7.1 Recognize the basic components of the univers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1919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160" y="-7632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ahoma"/>
              </a:rPr>
              <a:t>Our Solar System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837720" y="1752120"/>
            <a:ext cx="5599080" cy="39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Our solar system is made up of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91919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u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91919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Nine planet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91919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heir mo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91919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steroi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91919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omet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6" name="Picture 4" descr="solar-system"/>
          <p:cNvPicPr/>
          <p:nvPr/>
        </p:nvPicPr>
        <p:blipFill>
          <a:blip r:embed="rId1"/>
          <a:stretch/>
        </p:blipFill>
        <p:spPr>
          <a:xfrm>
            <a:off x="6354720" y="0"/>
            <a:ext cx="2789280" cy="34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ahoma"/>
              </a:rPr>
              <a:t>Inner Planets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182600" y="1828800"/>
            <a:ext cx="5065920" cy="39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he inner four rocky planets at the center of the solar system ar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91919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Mercu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91919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Venu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91919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Eart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91919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Ma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9" name="Picture 4" descr="solar-system"/>
          <p:cNvPicPr/>
          <p:nvPr/>
        </p:nvPicPr>
        <p:blipFill>
          <a:blip r:embed="rId1"/>
          <a:stretch/>
        </p:blipFill>
        <p:spPr>
          <a:xfrm>
            <a:off x="6354720" y="0"/>
            <a:ext cx="2789280" cy="34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ahoma"/>
              </a:rPr>
              <a:t>Mercury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182600" y="2209320"/>
            <a:ext cx="7772400" cy="39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1919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Planet nearest the su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1919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cond smallest plan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1919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overed with crat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1919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Has no moons or ring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1919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bout size of Earth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 mo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2" name="Picture 5" descr="mercury"/>
          <p:cNvPicPr/>
          <p:nvPr/>
        </p:nvPicPr>
        <p:blipFill>
          <a:blip r:embed="rId1"/>
          <a:srcRect l="15208" t="19679" r="14831" b="21317"/>
          <a:stretch/>
        </p:blipFill>
        <p:spPr>
          <a:xfrm>
            <a:off x="6781680" y="0"/>
            <a:ext cx="2362320" cy="18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ahoma"/>
              </a:rPr>
              <a:t>Venus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182600" y="2209320"/>
            <a:ext cx="7772400" cy="39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1919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ister planet to Eart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1919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Has no moons or ring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1919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Hot, thick atmosphe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1919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Brightest object in sky besides sun and moon (looks like bright star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1919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overed with craters, volcanoes, and mountai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1919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5" name="Picture 6" descr="venus"/>
          <p:cNvPicPr/>
          <p:nvPr/>
        </p:nvPicPr>
        <p:blipFill>
          <a:blip r:embed="rId1"/>
          <a:srcRect l="14831" t="16392" r="24337" b="14754"/>
          <a:stretch/>
        </p:blipFill>
        <p:spPr>
          <a:xfrm>
            <a:off x="7039080" y="0"/>
            <a:ext cx="210492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ahoma"/>
              </a:rPr>
              <a:t>Earth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182600" y="2209320"/>
            <a:ext cx="7772400" cy="39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1919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hird planet from su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1919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Only planet known to have life and liquid wa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1919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tmosphere composed of composed of Nitrogen (78%), Oxygen (21%), and other gases (1%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1919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8" name="Picture 6" descr="earth"/>
          <p:cNvPicPr/>
          <p:nvPr/>
        </p:nvPicPr>
        <p:blipFill>
          <a:blip r:embed="rId1"/>
          <a:srcRect l="19164" t="9840" r="17870" b="14754"/>
          <a:stretch/>
        </p:blipFill>
        <p:spPr>
          <a:xfrm>
            <a:off x="7086600" y="0"/>
            <a:ext cx="20574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Mars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182600" y="2209320"/>
            <a:ext cx="7772400" cy="39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1919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ourth planet from su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1919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ppears as bright reddish color in the night sk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1919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urface features volcanoes and huge dust st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1919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Has 2 moons:  Phobos and Deimo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1919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1" name="Picture 6" descr="mars"/>
          <p:cNvPicPr/>
          <p:nvPr/>
        </p:nvPicPr>
        <p:blipFill>
          <a:blip r:embed="rId1"/>
          <a:srcRect l="18258" t="16392" r="17870" b="14754"/>
          <a:stretch/>
        </p:blipFill>
        <p:spPr>
          <a:xfrm>
            <a:off x="6629400" y="152280"/>
            <a:ext cx="21337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Outer Planets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182600" y="2209320"/>
            <a:ext cx="5065920" cy="39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he outer planets composed of gas are 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1919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Jupi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1919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atur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1919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Uranu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1919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Neptu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4" name="Picture 4" descr="solar-system"/>
          <p:cNvPicPr/>
          <p:nvPr/>
        </p:nvPicPr>
        <p:blipFill>
          <a:blip r:embed="rId1"/>
          <a:stretch/>
        </p:blipFill>
        <p:spPr>
          <a:xfrm>
            <a:off x="6354720" y="0"/>
            <a:ext cx="2789280" cy="34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5T14:00:51Z</dcterms:created>
  <dc:creator>Connie Campbell</dc:creator>
  <dc:description/>
  <dc:language>en-US</dc:language>
  <cp:lastModifiedBy>St. Aloysius</cp:lastModifiedBy>
  <dcterms:modified xsi:type="dcterms:W3CDTF">2013-03-14T17:53:32Z</dcterms:modified>
  <cp:revision>16</cp:revision>
  <dc:subject/>
  <dc:title>Our Solar System</dc:title>
</cp:coreProperties>
</file>